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gif" ContentType="image/gif"/>
  <Override PartName="/ppt/media/image9.wmf" ContentType="image/x-wmf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34A-E38E-40BF-B1DA-0EFACBC5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43C-8D85-4595-A584-17FBD7B3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7B0-3A3C-4829-B5A8-8223DCD1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467-3350-4085-B76A-AFC30A78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FF52-63F6-4B75-9403-D33DDECC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FA01-E1AB-433F-AA55-AB2EEC7F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C975-75EB-4097-A3D0-2532E21C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A0B7-E5B7-4B5F-9F36-32ED5B4E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3216-FD3D-4D2D-8CB0-31AE0090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D6AC-C7C6-4105-9848-C13763AE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CEFC-E018-4E72-8613-D05B1D00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B43-C015-40C3-9727-58C05CEB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5044-054C-4035-B3FB-9D3DCAD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DB23-D76F-40E0-8FAE-DCF726C7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7674-BECD-4859-9D0F-5EEBDD61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798-70C4-463E-BB04-653CE7C8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0AC9-E40A-4756-A759-3DC4A01D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5D9-A304-45FB-B550-DD6B0A98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022-4EFA-497F-B368-BE43E3B1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D59-D2E5-4A7A-BA79-8E9D3B8F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95E-EECE-4BA4-A397-D34B2888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254-B022-4368-8E1C-59BF88F4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7AA-AC05-4A1F-9304-AACFF590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EA7-E8F0-47C3-82A6-E2589E6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C9A1-CABD-4BA4-A8F6-1113B7B48B1B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EB21-7F29-47D7-8499-A06350052E55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C176-9C58-42CA-907B-D5E2F3F5DAEB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1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3BC7-1DE1-48C0-89B0-765C5A417387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132" descr="xuexi10"/>
          <p:cNvPicPr/>
          <p:nvPr/>
        </p:nvPicPr>
        <p:blipFill>
          <a:blip r:embed="rId1"/>
          <a:stretch/>
        </p:blipFill>
        <p:spPr>
          <a:xfrm>
            <a:off x="3733920" y="3610080"/>
            <a:ext cx="3333600" cy="26384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5129"/>
          <p:cNvSpPr/>
          <p:nvPr/>
        </p:nvSpPr>
        <p:spPr>
          <a:xfrm>
            <a:off x="1752480" y="1905120"/>
            <a:ext cx="5943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0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riting an E-mail in English!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7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19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17" name="文本框 33897"/>
          <p:cNvSpPr/>
          <p:nvPr/>
        </p:nvSpPr>
        <p:spPr>
          <a:xfrm>
            <a:off x="685800" y="2927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想有自己的笔友吗？请你试着写一封电子邮件来介绍一下你自己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59399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Children are what the mothers are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耳濡目染，言传身教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19" name="图片 59401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5940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Do you write e-mail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Who do you usually write e-mails to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What do you write in your e-mail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44048"/>
          <p:cNvSpPr/>
          <p:nvPr/>
        </p:nvSpPr>
        <p:spPr>
          <a:xfrm>
            <a:off x="1523880" y="1752480"/>
            <a:ext cx="6629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want to know more friends? Please introduce yourself to others. You can talk about: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Your name;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Your family;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Your hobb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图片 44049" descr="20050615145355305"/>
          <p:cNvPicPr/>
          <p:nvPr/>
        </p:nvPicPr>
        <p:blipFill>
          <a:blip r:embed="rId1"/>
          <a:stretch/>
        </p:blipFill>
        <p:spPr>
          <a:xfrm>
            <a:off x="5538960" y="4341960"/>
            <a:ext cx="1358640" cy="20588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4050" descr="20050615145048329"/>
          <p:cNvPicPr/>
          <p:nvPr/>
        </p:nvPicPr>
        <p:blipFill>
          <a:blip r:embed="rId2"/>
          <a:stretch/>
        </p:blipFill>
        <p:spPr>
          <a:xfrm>
            <a:off x="7291440" y="4570560"/>
            <a:ext cx="1395360" cy="18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8136"/>
          <p:cNvSpPr/>
          <p:nvPr/>
        </p:nvSpPr>
        <p:spPr>
          <a:xfrm>
            <a:off x="1571040" y="1068480"/>
            <a:ext cx="597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ff"/>
                </a:solidFill>
                <a:latin typeface="Times New Roman"/>
              </a:rPr>
              <a:t>Read and remember the new words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矩形 48137"/>
          <p:cNvSpPr/>
          <p:nvPr/>
        </p:nvSpPr>
        <p:spPr>
          <a:xfrm>
            <a:off x="2758680" y="2133720"/>
            <a:ext cx="328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al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伙伴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roduce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v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介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essic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杰西卡（人名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图片 48138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806436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51203" descr="1108688_180815147119_2"/>
          <p:cNvPicPr/>
          <p:nvPr/>
        </p:nvPicPr>
        <p:blipFill>
          <a:blip r:embed="rId1"/>
          <a:srcRect l="0" t="0" r="0" b="4081"/>
          <a:stretch/>
        </p:blipFill>
        <p:spPr>
          <a:xfrm>
            <a:off x="2209680" y="1219320"/>
            <a:ext cx="472464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51204"/>
          <p:cNvSpPr/>
          <p:nvPr/>
        </p:nvSpPr>
        <p:spPr>
          <a:xfrm>
            <a:off x="3414600" y="52228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odl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99" name="矩形 15372"/>
          <p:cNvSpPr/>
          <p:nvPr/>
        </p:nvSpPr>
        <p:spPr>
          <a:xfrm>
            <a:off x="990720" y="1523880"/>
            <a:ext cx="7543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 me introduce myself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我来介绍我自已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roduc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v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介绍。常用于结构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roduce sb. to sb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把某人介绍给某人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e often introduces her friends to her sister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她常把她的朋友们介绍给她妹妹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50179"/>
          <p:cNvSpPr/>
          <p:nvPr/>
        </p:nvSpPr>
        <p:spPr>
          <a:xfrm>
            <a:off x="838080" y="1143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…I am trying to use some new wor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在努力用一些新单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文本框 50180"/>
          <p:cNvSpPr/>
          <p:nvPr/>
        </p:nvSpPr>
        <p:spPr>
          <a:xfrm>
            <a:off x="838080" y="2413080"/>
            <a:ext cx="746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to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努力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doing 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尝试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girl tries to study hard at Englis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个女孩努力学习英语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 you try helping him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能试着帮帮他吗？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2" name="Picture 2" descr="6_1105584051"/>
          <p:cNvPicPr/>
          <p:nvPr/>
        </p:nvPicPr>
        <p:blipFill>
          <a:blip r:embed="rId1"/>
          <a:srcRect l="81964" t="0" r="0" b="818"/>
          <a:stretch/>
        </p:blipFill>
        <p:spPr>
          <a:xfrm>
            <a:off x="7238880" y="1905120"/>
            <a:ext cx="1098720" cy="40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6385"/>
          <p:cNvSpPr/>
          <p:nvPr/>
        </p:nvSpPr>
        <p:spPr>
          <a:xfrm>
            <a:off x="762120" y="7207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I’m looking forward to your repl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期待着你的回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文本框 16386"/>
          <p:cNvSpPr/>
          <p:nvPr/>
        </p:nvSpPr>
        <p:spPr>
          <a:xfrm>
            <a:off x="1066680" y="1905120"/>
            <a:ext cx="73152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forward 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期待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介词，后面要跟名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代词或动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形式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作介词短语的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sten to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听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used to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习惯于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;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ay attention to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。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look forward to seeing him agai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期望再次见到他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581280" y="762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6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37893"/>
          <p:cNvSpPr/>
          <p:nvPr/>
        </p:nvSpPr>
        <p:spPr>
          <a:xfrm>
            <a:off x="1066680" y="144792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想认识更多的说英语的朋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want to know _____ ________________ frien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吉姆正努力学开车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im is _____ _____ _____ to driv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都期待美好的未来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all ______ _______ ______ good futur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文本框 37894"/>
          <p:cNvSpPr/>
          <p:nvPr/>
        </p:nvSpPr>
        <p:spPr>
          <a:xfrm>
            <a:off x="3581280" y="2666880"/>
            <a:ext cx="9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文本框 37899"/>
          <p:cNvSpPr/>
          <p:nvPr/>
        </p:nvSpPr>
        <p:spPr>
          <a:xfrm>
            <a:off x="2209680" y="3733920"/>
            <a:ext cx="11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y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文本框 37900"/>
          <p:cNvSpPr/>
          <p:nvPr/>
        </p:nvSpPr>
        <p:spPr>
          <a:xfrm>
            <a:off x="2533680" y="4876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ok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文本框 37901"/>
          <p:cNvSpPr/>
          <p:nvPr/>
        </p:nvSpPr>
        <p:spPr>
          <a:xfrm>
            <a:off x="3352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war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矩形 37907"/>
          <p:cNvSpPr/>
          <p:nvPr/>
        </p:nvSpPr>
        <p:spPr>
          <a:xfrm>
            <a:off x="3200400" y="373392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矩形 37908"/>
          <p:cNvSpPr/>
          <p:nvPr/>
        </p:nvSpPr>
        <p:spPr>
          <a:xfrm>
            <a:off x="4437000" y="266688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-speak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矩形 37913"/>
          <p:cNvSpPr/>
          <p:nvPr/>
        </p:nvSpPr>
        <p:spPr>
          <a:xfrm>
            <a:off x="3886200" y="373392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矩形 37914"/>
          <p:cNvSpPr/>
          <p:nvPr/>
        </p:nvSpPr>
        <p:spPr>
          <a:xfrm>
            <a:off x="4800600" y="487692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0:56:35Z</dcterms:created>
  <dc:creator/>
  <dc:description/>
  <dc:language>en-US</dc:language>
  <cp:lastModifiedBy>Administrator</cp:lastModifiedBy>
  <dcterms:modified xsi:type="dcterms:W3CDTF">2019-01-02T00:57:48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